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CHIMES.WAV" ContentType="audio/x-wav"/>
  <Override PartName="/ppt/media/PROJCTOR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076-AC19-4F39-A431-1FFB8DD2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B43-8D54-4EFB-B6A8-A219356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49D-4999-4CF4-A26D-7CF2CA7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12B-15AC-48E4-A8C7-0C9370F7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A7B-6B96-4BAB-9CAE-084A97B9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CE6-55F0-494F-9E6E-2D4408B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0D22-49DD-41C2-9F01-8CF80536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18FE-2C29-4387-86BE-E1A8C24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F2DD-06F9-4E93-BF3E-BCA2D13E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457-7ABE-4726-9810-2CC68922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4BCA-5DB6-42C1-8B2B-3C760D6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CFA-587E-4416-9444-754AB42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CA5-2081-4E2C-A3F0-BA8AB635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2F49-2DEC-446B-A941-57F9BD4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96C5-E1F0-444D-8227-EF11437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585-FEC2-4F1E-9B49-E335E961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BB2D-6784-4DD3-AFB0-C4E93D76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C70-33B3-428B-8DDA-E4B6BDC0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DE2-9CC2-4BCA-823B-C7139A5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33B-ECD6-431A-B7A1-6D76E8EF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A1E-EBA6-4EC2-9279-817CC43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254-1314-438B-9A1C-08A905C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42D-A54D-428A-8F9C-F92DF9A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E5E-CF1D-48D7-A5F3-5D2C90D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201-6F66-4C18-B5C0-0C9E95845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52E7-D6B0-409B-B1B7-8ECAE491E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42.xml"/><Relationship Id="rId3" Type="http://schemas.openxmlformats.org/officeDocument/2006/relationships/slide" Target="slide32.xml"/><Relationship Id="rId4" Type="http://schemas.openxmlformats.org/officeDocument/2006/relationships/slide" Target="slide22.xml"/><Relationship Id="rId5" Type="http://schemas.openxmlformats.org/officeDocument/2006/relationships/slide" Target="slide12.xml"/><Relationship Id="rId6" Type="http://schemas.openxmlformats.org/officeDocument/2006/relationships/slide" Target="slide50.xml"/><Relationship Id="rId7" Type="http://schemas.openxmlformats.org/officeDocument/2006/relationships/slide" Target="slide40.xml"/><Relationship Id="rId8" Type="http://schemas.openxmlformats.org/officeDocument/2006/relationships/slide" Target="slide30.xml"/><Relationship Id="rId9" Type="http://schemas.openxmlformats.org/officeDocument/2006/relationships/slide" Target="slide55.xml"/><Relationship Id="rId10" Type="http://schemas.openxmlformats.org/officeDocument/2006/relationships/slide" Target="slide10.xml"/><Relationship Id="rId11" Type="http://schemas.openxmlformats.org/officeDocument/2006/relationships/slide" Target="slide48.xml"/><Relationship Id="rId12" Type="http://schemas.openxmlformats.org/officeDocument/2006/relationships/slide" Target="slide38.xml"/><Relationship Id="rId13" Type="http://schemas.openxmlformats.org/officeDocument/2006/relationships/slide" Target="slide28.xml"/><Relationship Id="rId14" Type="http://schemas.openxmlformats.org/officeDocument/2006/relationships/slide" Target="slide18.xml"/><Relationship Id="rId15" Type="http://schemas.openxmlformats.org/officeDocument/2006/relationships/slide" Target="slide8.xml"/><Relationship Id="rId16" Type="http://schemas.openxmlformats.org/officeDocument/2006/relationships/slide" Target="slide46.xml"/><Relationship Id="rId17" Type="http://schemas.openxmlformats.org/officeDocument/2006/relationships/slide" Target="slide36.xml"/><Relationship Id="rId18" Type="http://schemas.openxmlformats.org/officeDocument/2006/relationships/slide" Target="slide26.xml"/><Relationship Id="rId19" Type="http://schemas.openxmlformats.org/officeDocument/2006/relationships/slide" Target="slide16.xml"/><Relationship Id="rId20" Type="http://schemas.openxmlformats.org/officeDocument/2006/relationships/slide" Target="slide6.xml"/><Relationship Id="rId21" Type="http://schemas.openxmlformats.org/officeDocument/2006/relationships/slide" Target="slide44.xml"/><Relationship Id="rId22" Type="http://schemas.openxmlformats.org/officeDocument/2006/relationships/slide" Target="slide34.xml"/><Relationship Id="rId23" Type="http://schemas.openxmlformats.org/officeDocument/2006/relationships/slide" Target="slide24.xml"/><Relationship Id="rId24" Type="http://schemas.openxmlformats.org/officeDocument/2006/relationships/slide" Target="slide14.xml"/><Relationship Id="rId25" Type="http://schemas.openxmlformats.org/officeDocument/2006/relationships/slide" Target="slide4.xml"/><Relationship Id="rId26" Type="http://schemas.openxmlformats.org/officeDocument/2006/relationships/slide" Target="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61920" y="2324160"/>
            <a:ext cx="7315200" cy="33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ize each of the following human diseases as bacterial/viral/or protist: Herpes, Gonorrhea, Giardiasis, Rubella, Malaria, Measles, Teta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61920" y="2324160"/>
            <a:ext cx="7315200" cy="2859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                     Virus                      Prot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no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p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tan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Rubel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ature that apparently evolved only within the group under consideration. (ex. Feathers on a bir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d Character (ist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one type of Enteric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 or Salmon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psule with contains a layer of sticky suga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ycocaly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s that feed on the dead or decay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roph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1760" y="3730320"/>
            <a:ext cx="80773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762120"/>
            <a:ext cx="3706920" cy="2176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s that can live with or without oxyg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cultative anaero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rus that invades a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oph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2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heterozygous or homozygous for this disorder you are safe from this disor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6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assification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ckle Cell Anemia…Mala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terally means “false fee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220968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pod (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961920" y="2324160"/>
            <a:ext cx="7315200" cy="12924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color that gram positive bacteria turn after gram stain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91056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56080" y="538308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0520" y="538308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4640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2280" y="53830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1056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56080" y="4403880"/>
            <a:ext cx="155448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0520" y="4403880"/>
            <a:ext cx="155556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4640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2280" y="440388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1056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56080" y="3425760"/>
            <a:ext cx="155448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0520" y="3425760"/>
            <a:ext cx="155556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4640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2280" y="342576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876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5464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98720" y="244800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4460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0480" y="244800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0" action="ppaction://hlinksldjump"/>
              </a:rPr>
              <a:t>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0876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2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98720" y="1469880"/>
            <a:ext cx="15559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4460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4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0480" y="1469880"/>
            <a:ext cx="1554120" cy="97812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5" action="ppaction://hlinksldjump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876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98720" y="492120"/>
            <a:ext cx="15559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4460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0480" y="492120"/>
            <a:ext cx="1554120" cy="977760"/>
          </a:xfrm>
          <a:prstGeom prst="rect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0408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996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94040" y="522360"/>
            <a:ext cx="15559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992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22360"/>
            <a:ext cx="155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26" action="ppaction://hlinksldjump"/>
          </p:cNvPr>
          <p:cNvSpPr/>
          <p:nvPr/>
        </p:nvSpPr>
        <p:spPr>
          <a:xfrm>
            <a:off x="8626320" y="6278400"/>
            <a:ext cx="300240" cy="366840"/>
          </a:xfrm>
          <a:custGeom>
            <a:avLst/>
            <a:gdLst>
              <a:gd name="textAreaLeft" fmla="*/ 19440 w 300240"/>
              <a:gd name="textAreaRight" fmla="*/ 280800 w 300240"/>
              <a:gd name="textAreaTop" fmla="*/ 19440 h 366840"/>
              <a:gd name="textAreaBottom" fmla="*/ 347400 h 366840"/>
            </a:gdLst>
            <a:ahLst/>
            <a:rect l="textAreaLeft" t="textAreaTop" r="textAreaRight" b="textAreaBottom"/>
            <a:pathLst>
              <a:path w="21600" h="26386">
                <a:moveTo>
                  <a:pt x="0" y="0"/>
                </a:moveTo>
                <a:lnTo>
                  <a:pt x="21600" y="0"/>
                </a:lnTo>
                <a:lnTo>
                  <a:pt x="21600" y="26386"/>
                </a:lnTo>
                <a:lnTo>
                  <a:pt x="0" y="26386"/>
                </a:lnTo>
                <a:close/>
              </a:path>
              <a:path fill="lightenLess" w="21600" h="26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86">
                <a:moveTo>
                  <a:pt x="21600" y="0"/>
                </a:moveTo>
                <a:lnTo>
                  <a:pt x="21600" y="26386"/>
                </a:lnTo>
                <a:lnTo>
                  <a:pt x="20200" y="24986"/>
                </a:lnTo>
                <a:lnTo>
                  <a:pt x="20200" y="1400"/>
                </a:lnTo>
                <a:close/>
              </a:path>
              <a:path fill="darkenLess" w="21600" h="26386">
                <a:moveTo>
                  <a:pt x="21600" y="26386"/>
                </a:moveTo>
                <a:lnTo>
                  <a:pt x="0" y="26386"/>
                </a:lnTo>
                <a:lnTo>
                  <a:pt x="1400" y="24986"/>
                </a:lnTo>
                <a:lnTo>
                  <a:pt x="20200" y="24986"/>
                </a:lnTo>
                <a:close/>
              </a:path>
              <a:path fill="lighten" w="21600" h="26386">
                <a:moveTo>
                  <a:pt x="0" y="26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86"/>
                </a:lnTo>
                <a:close/>
              </a:path>
              <a:path fill="darken" w="21600" h="26386">
                <a:moveTo>
                  <a:pt x="14299" y="13193"/>
                </a:moveTo>
                <a:lnTo>
                  <a:pt x="3794" y="20199"/>
                </a:lnTo>
                <a:lnTo>
                  <a:pt x="3794" y="6186"/>
                </a:lnTo>
                <a:close/>
              </a:path>
              <a:path fill="darken" w="21600" h="26386">
                <a:moveTo>
                  <a:pt x="16144" y="6186"/>
                </a:moveTo>
                <a:lnTo>
                  <a:pt x="16144" y="20199"/>
                </a:lnTo>
                <a:lnTo>
                  <a:pt x="17806" y="20199"/>
                </a:lnTo>
                <a:lnTo>
                  <a:pt x="17806" y="618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ible for the initial input of oxygen into the atm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ano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 who discovered the polio vacc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nas Sal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3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ea which is affected by Botu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s bacteria’s DNA during harsh condi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p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depend on host cells for replication viruses are called. (3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 intracellular para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 cow’s disease is caused by this which is composed of groups of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821720" y="5840280"/>
            <a:ext cx="493560" cy="551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51160"/>
              <a:gd name="textAreaBottom" fmla="*/ 519480 h 551160"/>
            </a:gdLst>
            <a:ahLst/>
            <a:rect l="textAreaLeft" t="textAreaTop" r="textAreaRight" b="textAreaBottom"/>
            <a:pathLst>
              <a:path w="21600" h="24119">
                <a:moveTo>
                  <a:pt x="0" y="0"/>
                </a:moveTo>
                <a:lnTo>
                  <a:pt x="21600" y="0"/>
                </a:lnTo>
                <a:lnTo>
                  <a:pt x="21600" y="24119"/>
                </a:lnTo>
                <a:lnTo>
                  <a:pt x="0" y="24119"/>
                </a:lnTo>
                <a:close/>
              </a:path>
              <a:path fill="lightenLess" w="21600" h="241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19">
                <a:moveTo>
                  <a:pt x="21600" y="0"/>
                </a:moveTo>
                <a:lnTo>
                  <a:pt x="21600" y="24119"/>
                </a:lnTo>
                <a:lnTo>
                  <a:pt x="20200" y="22719"/>
                </a:lnTo>
                <a:lnTo>
                  <a:pt x="20200" y="1400"/>
                </a:lnTo>
                <a:close/>
              </a:path>
              <a:path fill="darkenLess" w="21600" h="24119">
                <a:moveTo>
                  <a:pt x="21600" y="24119"/>
                </a:moveTo>
                <a:lnTo>
                  <a:pt x="0" y="24119"/>
                </a:lnTo>
                <a:lnTo>
                  <a:pt x="1400" y="22719"/>
                </a:lnTo>
                <a:lnTo>
                  <a:pt x="20200" y="22719"/>
                </a:lnTo>
                <a:close/>
              </a:path>
              <a:path fill="lighten" w="21600" h="24119">
                <a:moveTo>
                  <a:pt x="0" y="241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19"/>
                </a:lnTo>
                <a:close/>
              </a:path>
              <a:path fill="darken" w="21600" h="24119">
                <a:moveTo>
                  <a:pt x="10800" y="160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119">
                <a:moveTo>
                  <a:pt x="11905" y="15541"/>
                </a:moveTo>
                <a:lnTo>
                  <a:pt x="11905" y="13583"/>
                </a:lnTo>
                <a:cubicBezTo>
                  <a:pt x="11905" y="12756"/>
                  <a:pt x="12236" y="12059"/>
                  <a:pt x="12837" y="12059"/>
                </a:cubicBezTo>
                <a:cubicBezTo>
                  <a:pt x="13968" y="12059"/>
                  <a:pt x="14865" y="10693"/>
                  <a:pt x="14865" y="9109"/>
                </a:cubicBezTo>
                <a:cubicBezTo>
                  <a:pt x="14865" y="6794"/>
                  <a:pt x="13011" y="5053"/>
                  <a:pt x="10800" y="5053"/>
                </a:cubicBezTo>
                <a:cubicBezTo>
                  <a:pt x="8589" y="5053"/>
                  <a:pt x="6918" y="6794"/>
                  <a:pt x="6918" y="9109"/>
                </a:cubicBezTo>
                <a:lnTo>
                  <a:pt x="8772" y="9109"/>
                </a:lnTo>
                <a:cubicBezTo>
                  <a:pt x="8772" y="7969"/>
                  <a:pt x="9695" y="7081"/>
                  <a:pt x="10800" y="7081"/>
                </a:cubicBezTo>
                <a:cubicBezTo>
                  <a:pt x="11905" y="7081"/>
                  <a:pt x="12837" y="7969"/>
                  <a:pt x="12837" y="9109"/>
                </a:cubicBezTo>
                <a:cubicBezTo>
                  <a:pt x="12837" y="9849"/>
                  <a:pt x="12367" y="10580"/>
                  <a:pt x="11905" y="10580"/>
                </a:cubicBezTo>
                <a:cubicBezTo>
                  <a:pt x="10800" y="10580"/>
                  <a:pt x="9695" y="12059"/>
                  <a:pt x="9695" y="13583"/>
                </a:cubicBezTo>
                <a:lnTo>
                  <a:pt x="9695" y="1554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0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the phylum to which the Amoeba, Paramecium, and Euglena belong (in that ord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1920" y="2324160"/>
            <a:ext cx="7315200" cy="31345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a – Sarcod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cium – Ciliopho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glena - Euglenophy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caused by Borrelia burgdorfe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9360" y="2384280"/>
            <a:ext cx="8559720" cy="8251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m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4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lors of these three phylum or algae is correct order: Chlorophyta, Phaeophyta, Rhodophy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236232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, Brown,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f antiviral drugs that inhibit capsid 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ase inhib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ranch of biology that names and groups organism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1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pr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mallest known particles that are able to replicate, also known as “naked DNA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o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4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ways to classify alga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>
            <a:hlinkClick r:id="rId1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Prompt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61920" y="2324160"/>
            <a:ext cx="7315200" cy="256284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, type of chlorophyll, form of food-storage substance, and cell wall com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5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5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1440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Round 2 Are you ready???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61840" y="2389320"/>
            <a:ext cx="74599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Black"/>
              </a:rPr>
              <a:t>The Daily Doubl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32560" y="5964120"/>
            <a:ext cx="754200" cy="363600"/>
          </a:xfrm>
          <a:custGeom>
            <a:avLst/>
            <a:gdLst>
              <a:gd name="textAreaLeft" fmla="*/ 0 w 754200"/>
              <a:gd name="textAreaRight" fmla="*/ 754560 w 7542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V ‘eye’ russ is </a:t>
            </a:r>
            <a:br>
              <a:rPr sz="36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961920" y="2324160"/>
            <a:ext cx="7315200" cy="173988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causing virus: Virulant as Nondisease causing virus : ______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228600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2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RANDOM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 that are genetically alt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640640" y="5996160"/>
            <a:ext cx="493560" cy="422280"/>
          </a:xfrm>
          <a:custGeom>
            <a:avLst/>
            <a:gdLst>
              <a:gd name="textAreaLeft" fmla="*/ 27360 w 493560"/>
              <a:gd name="textAreaRight" fmla="*/ 466200 w 493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243" h="21600">
                <a:moveTo>
                  <a:pt x="0" y="0"/>
                </a:moveTo>
                <a:lnTo>
                  <a:pt x="25243" y="0"/>
                </a:lnTo>
                <a:lnTo>
                  <a:pt x="25243" y="21600"/>
                </a:lnTo>
                <a:lnTo>
                  <a:pt x="0" y="21600"/>
                </a:lnTo>
                <a:close/>
              </a:path>
              <a:path fill="lightenLess" w="25243" h="21600">
                <a:moveTo>
                  <a:pt x="0" y="0"/>
                </a:moveTo>
                <a:lnTo>
                  <a:pt x="25243" y="0"/>
                </a:lnTo>
                <a:lnTo>
                  <a:pt x="23843" y="1400"/>
                </a:lnTo>
                <a:lnTo>
                  <a:pt x="1400" y="1400"/>
                </a:lnTo>
                <a:close/>
              </a:path>
              <a:path fill="darken" w="25243" h="21600">
                <a:moveTo>
                  <a:pt x="25243" y="0"/>
                </a:moveTo>
                <a:lnTo>
                  <a:pt x="25243" y="21600"/>
                </a:lnTo>
                <a:lnTo>
                  <a:pt x="23843" y="20200"/>
                </a:lnTo>
                <a:lnTo>
                  <a:pt x="23843" y="1400"/>
                </a:lnTo>
                <a:close/>
              </a:path>
              <a:path fill="darkenLess" w="25243" h="21600">
                <a:moveTo>
                  <a:pt x="25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3" y="20200"/>
                </a:lnTo>
                <a:close/>
              </a:path>
              <a:path fill="lighten" w="25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3" h="21600">
                <a:moveTo>
                  <a:pt x="126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43" h="21600">
                <a:moveTo>
                  <a:pt x="13727" y="14281"/>
                </a:moveTo>
                <a:lnTo>
                  <a:pt x="13727" y="12323"/>
                </a:lnTo>
                <a:cubicBezTo>
                  <a:pt x="13727" y="11496"/>
                  <a:pt x="14058" y="10800"/>
                  <a:pt x="14658" y="10800"/>
                </a:cubicBezTo>
                <a:cubicBezTo>
                  <a:pt x="15790" y="10800"/>
                  <a:pt x="16686" y="9434"/>
                  <a:pt x="16686" y="7849"/>
                </a:cubicBezTo>
                <a:cubicBezTo>
                  <a:pt x="16686" y="5534"/>
                  <a:pt x="14832" y="3794"/>
                  <a:pt x="12621" y="3794"/>
                </a:cubicBezTo>
                <a:cubicBezTo>
                  <a:pt x="10411" y="3794"/>
                  <a:pt x="8740" y="5534"/>
                  <a:pt x="8740" y="7849"/>
                </a:cubicBezTo>
                <a:lnTo>
                  <a:pt x="10594" y="7849"/>
                </a:lnTo>
                <a:cubicBezTo>
                  <a:pt x="10594" y="6709"/>
                  <a:pt x="11516" y="5821"/>
                  <a:pt x="12621" y="5821"/>
                </a:cubicBezTo>
                <a:cubicBezTo>
                  <a:pt x="13727" y="5821"/>
                  <a:pt x="14658" y="6709"/>
                  <a:pt x="14658" y="7849"/>
                </a:cubicBezTo>
                <a:cubicBezTo>
                  <a:pt x="14658" y="8589"/>
                  <a:pt x="14188" y="9320"/>
                  <a:pt x="13727" y="9320"/>
                </a:cubicBezTo>
                <a:cubicBezTo>
                  <a:pt x="12621" y="9320"/>
                  <a:pt x="11516" y="10800"/>
                  <a:pt x="11516" y="12323"/>
                </a:cubicBezTo>
                <a:lnTo>
                  <a:pt x="11516" y="14281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me 1 Respons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300 Poi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961920" y="2324160"/>
            <a:ext cx="7315200" cy="91692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nua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9:10:03Z</dcterms:created>
  <dc:creator>NPSD</dc:creator>
  <dc:description/>
  <dc:language>en-US</dc:language>
  <cp:lastModifiedBy>NPSD</cp:lastModifiedBy>
  <dcterms:modified xsi:type="dcterms:W3CDTF">2009-05-13T18:31:46Z</dcterms:modified>
  <cp:revision>4</cp:revision>
  <dc:subject/>
  <dc:title>Slide 1</dc:title>
</cp:coreProperties>
</file>